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FDC-7F3C-4C8D-BA08-CFD3B5A0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B4C-89A0-47D8-9D33-E6978C13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D98-1D74-488A-BD99-10F8EFB1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785-7F32-48B3-BF20-B61A8684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E589-CBE7-467A-9A4B-E7D01D71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E2CB-5428-4E07-A88C-7393FD7E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126C-CEF6-4E33-B761-2853B505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8B8E-8A0E-4903-A229-C6BB231C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E51D-FA65-44AC-8025-D1AE009E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D815-3D4F-4002-9659-F3891268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9F12-81EF-4E25-A74A-BAF5D9CB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CAC-DA7A-44E5-9F63-AD1B6FBE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50D7-6C3C-423B-B7D2-0763381B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1720-6600-4E19-9205-48321CDD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DC98-906A-476A-9393-5A2B63AC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E445-BC2A-47F4-A8A9-190003D6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11E5-A8A6-45FC-966E-ADEFF55C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660-DA79-4CD7-B50D-492ED2B1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2C59-4150-4508-9FF3-7CCE9C90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D00E-1A48-49EF-B43F-C7508CD7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6DD-0397-46AE-A633-00FA96C8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1E68-4AC8-41F8-8026-B561E44A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0F8-7A85-43FD-A1AF-C4680A52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27B-D9CE-404C-AEA1-C378AC4E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42A9-C70E-4F62-9C50-0E2669FF9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AB1C-14A9-454E-B839-6A6FAB13C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64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Филиал муниципального общеобразовательного учреждения средней общеобразовательной школы 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с. Шестаково основная общеобразовательная школа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с. Лекма Слободского района Кировской области</a:t>
            </a:r>
            <a:br>
              <a:rPr sz="2000"/>
            </a:br>
            <a:br>
              <a:rPr sz="2000"/>
            </a:br>
            <a:br>
              <a:rPr sz="2000"/>
            </a:b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6000" y="3789000"/>
            <a:ext cx="64087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Comic Sans MS"/>
              </a:rPr>
              <a:t>или Текстовые задачи на проценты, которые решают жители села на производ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Работу выполнил ученик 9 класса Тукмачев Кири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Руководитель Шулепова Наталья Фё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71640" y="1700280"/>
            <a:ext cx="7848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0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Задачи  моих односельчан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308720" y="4292640"/>
            <a:ext cx="160668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236000" y="5595840"/>
            <a:ext cx="1908000" cy="1262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Comic Sans MS"/>
              </a:rPr>
              <a:t>При хранении сена его влажность уменьшилась с 20% до 18%. На сколько процентов уменьшилась масса сена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ff"/>
                </a:solidFill>
                <a:latin typeface="Comic Sans MS"/>
              </a:rPr>
              <a:t>Решение.</a:t>
            </a:r>
            <a:r>
              <a:rPr b="0" lang="ru-RU" sz="2700" spc="-1" strike="noStrike">
                <a:solidFill>
                  <a:srgbClr val="0000ff"/>
                </a:solidFill>
                <a:latin typeface="Comic Sans MS"/>
              </a:rPr>
              <a:t> Если первоначально масса сена  </a:t>
            </a:r>
            <a:r>
              <a:rPr b="0" lang="en-US" sz="27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ru-RU" sz="2700" spc="-1" strike="noStrike">
                <a:solidFill>
                  <a:srgbClr val="0000ff"/>
                </a:solidFill>
                <a:latin typeface="Comic Sans MS"/>
              </a:rPr>
              <a:t>, то сухого вещества в нём содержится (</a:t>
            </a:r>
            <a:r>
              <a:rPr b="0" lang="en-US" sz="27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ru-RU" sz="2700" spc="-1" strike="noStrike">
                <a:solidFill>
                  <a:srgbClr val="0000ff"/>
                </a:solidFill>
                <a:latin typeface="Comic Sans MS"/>
              </a:rPr>
              <a:t>*(100% - 20%)) : 100%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Comic Sans MS"/>
              </a:rPr>
              <a:t>Это сухое вещество составляет (100 – 18)% массы просохшего сена. Поэтому масса сена при реализации М = (</a:t>
            </a:r>
            <a:r>
              <a:rPr b="0" lang="en-US" sz="27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ru-RU" sz="2700" spc="-1" strike="noStrike">
                <a:solidFill>
                  <a:srgbClr val="0000ff"/>
                </a:solidFill>
                <a:latin typeface="Comic Sans MS"/>
              </a:rPr>
              <a:t>*(100 – 20)) : (100 – 18), значит его масса уменьшилась на </a:t>
            </a:r>
            <a:r>
              <a:rPr b="0" lang="en-US" sz="2700" spc="-1" strike="noStrike">
                <a:solidFill>
                  <a:srgbClr val="0000ff"/>
                </a:solidFill>
                <a:latin typeface="Comic Sans MS"/>
              </a:rPr>
              <a:t>m – </a:t>
            </a:r>
            <a:r>
              <a:rPr b="0" lang="ru-RU" sz="2700" spc="-1" strike="noStrike">
                <a:solidFill>
                  <a:srgbClr val="0000ff"/>
                </a:solidFill>
                <a:latin typeface="Comic Sans MS"/>
              </a:rPr>
              <a:t>М = (</a:t>
            </a:r>
            <a:r>
              <a:rPr b="0" lang="en-US" sz="27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ru-RU" sz="2700" spc="-1" strike="noStrike">
                <a:solidFill>
                  <a:srgbClr val="0000ff"/>
                </a:solidFill>
                <a:latin typeface="Comic Sans MS"/>
              </a:rPr>
              <a:t>*(20 – 18)) : (100 – 18), что составляет 100* (</a:t>
            </a:r>
            <a:r>
              <a:rPr b="0" lang="en-US" sz="27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ru-RU" sz="2700" spc="-1" strike="noStrike">
                <a:solidFill>
                  <a:srgbClr val="0000ff"/>
                </a:solidFill>
                <a:latin typeface="Comic Sans MS"/>
              </a:rPr>
              <a:t> – М) : </a:t>
            </a:r>
            <a:r>
              <a:rPr b="0" lang="en-US" sz="27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ru-RU" sz="2700" spc="-1" strike="noStrike">
                <a:solidFill>
                  <a:srgbClr val="0000ff"/>
                </a:solidFill>
                <a:latin typeface="Comic Sans MS"/>
              </a:rPr>
              <a:t> = (100*(20-18)): (100-18) = 200 : 82  = 2,4 (%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ff"/>
                </a:solidFill>
                <a:latin typeface="Comic Sans MS"/>
              </a:rPr>
              <a:t>Ответ:</a:t>
            </a:r>
            <a:r>
              <a:rPr b="0" lang="ru-RU" sz="2700" spc="-1" strike="noStrike">
                <a:solidFill>
                  <a:srgbClr val="0000ff"/>
                </a:solidFill>
                <a:latin typeface="Comic Sans MS"/>
              </a:rPr>
              <a:t> масса сена уменьшилась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ff"/>
                </a:solidFill>
                <a:latin typeface="Comic Sans MS"/>
              </a:rPr>
              <a:t>примерно на 2,4%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Льнотреста – это специальным образом обработанные стебли льна. При приёмке льнотресты с влажностью   выше или ниже нормы её фактическую массу пе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читывают на массу при нормальной влажности. Выведите формулу для такого пересчё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Пусть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– фактическая масса партии тресты, а её влажность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Если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– масса этой же партии при нормальной влажности в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%, то в силу неизменного количества сухого вещества в данной партии тресты должно выполняться соотношение                                  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тсюда находим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900000" y="4941720"/>
                <a:ext cx="20178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708360" y="5445000"/>
                <a:ext cx="18003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 txBox="1"/>
          <p:nvPr/>
        </p:nvSpPr>
        <p:spPr>
          <a:xfrm>
            <a:off x="2195640" y="189000"/>
            <a:ext cx="518472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Льнотрес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Агроном решает задачу: сколько нужно взять травы влажности 85% и подсушенной травы влажности 35% , чтобы получить 300 т зеленой массы для силосования влажности 75%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Обозначив через </a:t>
            </a: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x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массу взятой травы влажности 85% и определив количество воды, которое будет в таком случае содержаться во всей зеленой массе, получим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0,85</a:t>
            </a: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x</a:t>
            </a:r>
            <a:r>
              <a:rPr b="0" i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+ 0,35 * (300 -</a:t>
            </a:r>
            <a:r>
              <a:rPr b="0" i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x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) = 0,75 *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0,85</a:t>
            </a: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x</a:t>
            </a:r>
            <a:r>
              <a:rPr b="0" i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+ 105 - 0,35 </a:t>
            </a: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x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= 2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0,5 х =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х = 120 : 0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х = 240 (т) – необходимо взять травы влажности 85%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300 – 240 = 60 (т) необходимо взять травы влажности 75%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Ответ: 240 т и 60 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13892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3708360" y="0"/>
            <a:ext cx="4010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Заготовка силос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89647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Определите норму высева семян пшеницы, если известно, что на 1 га должно расти 6 миллионов растений, а при определении хозяйственной годности семян выяснилось, что масса 1000 зерен 40 г, чистота семян 97%, а всхожесть 9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Решение.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Пусть на 1 га будет высеяно х (в кг) сем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Среди этих семян зерна пшеницы будут составлять 0,97х (остальное сорняки или мусор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причем прорастут лишь зерна с общей массой           0,93 • 0,97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что и должно дать массу 6 миллионов зёр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Получаем уравнение    0,97 • 0,93х = 0,04 • 6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Решая его , находим х = 266 (к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Ответ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норма высева 266 кг/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403280" y="0"/>
            <a:ext cx="561672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Норма высев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На какую норму высева р (в кг/га) отрегулирована сеялка, если за п оборотов колеса из неё высыпалось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 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(в кг) зёрен? Какие параметры сеялки достаточно знать для решения зада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omic Sans MS"/>
              </a:rPr>
              <a:t>Решение.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Поскольку площадь S, засеваемая сеялкой за один оборот колеса, определяется рабочей шириной сеялки и длиной обода ее колеса, то достаточно знать эти парамет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Допустим, что рабочая ширина h метров, длина обода колеса — С 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Так как за один оборот колеса сеялка засевает прямоугольник площади           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 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– площадь в га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то получаем уравнение         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из которого находим</a:t>
            </a:r>
            <a:r>
              <a:rPr b="0" lang="ru-RU" sz="2400" spc="-1" strike="noStrike">
                <a:solidFill>
                  <a:srgbClr val="cc00ff"/>
                </a:solidFill>
                <a:latin typeface="Comic Sans MS"/>
              </a:rPr>
              <a:t>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643280" y="5013360"/>
                <a:ext cx="8305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500720" y="5516640"/>
                <a:ext cx="934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211640" y="6165720"/>
                <a:ext cx="10080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 txBox="1"/>
          <p:nvPr/>
        </p:nvSpPr>
        <p:spPr>
          <a:xfrm>
            <a:off x="1258920" y="260280"/>
            <a:ext cx="6337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Регулируем сеялк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Оцените урожайность культуры,  масса  1  м</a:t>
            </a:r>
            <a:r>
              <a:rPr b="0" lang="ru-RU" sz="28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 зерна которой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 (в кг), если уборка производится   на   скорости v (в км/ч) комбайном с шириной захвата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метров и ёмкостью бункера V (в м</a:t>
            </a:r>
            <a:r>
              <a:rPr b="0" lang="ru-RU" sz="28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). Бункер заполняется за t минут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Решение.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За время t минут комбайн проходит путь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 метров:           , скашивая прямоугольный участок длины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 и ширины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Обозначив через х (в ц/га) урожайность, получаем уравнение           .  Отсюда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Comic Sans MS"/>
              </a:rPr>
              <a:t>Ответ: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 урожайность культуры         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ц/га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411280" y="4149720"/>
                <a:ext cx="863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572000" y="5300640"/>
                <a:ext cx="8380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l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7451640" y="5300640"/>
                <a:ext cx="863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v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227640" y="6021360"/>
                <a:ext cx="9367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v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 txBox="1"/>
          <p:nvPr/>
        </p:nvSpPr>
        <p:spPr>
          <a:xfrm>
            <a:off x="1476360" y="115920"/>
            <a:ext cx="51832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Оценка урожа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058400" y="2265480"/>
            <a:ext cx="73422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Итак, при решении задач мы увид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применение идей и методов математики в различных сельскохозяйственных ситуаци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творческий характер труда сельскохозяйственных професс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700360" y="260280"/>
            <a:ext cx="321156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Выво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1197000"/>
            <a:ext cx="849780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450720">
              <a:lnSpc>
                <a:spcPct val="100000"/>
              </a:lnSpc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Comic Sans MS"/>
              </a:rPr>
              <a:t>Алгебра: сборник заданий для подготовки к итоговой аттестации в 9 классе / (Л. В. Кузнецова, С. Б. Суворова, Е. А. Бунимович, Т. В. Колесникова, Л. О. Рослова). М.: Просвещение, 2009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450720">
              <a:lnSpc>
                <a:spcPct val="100000"/>
              </a:lnSpc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Comic Sans MS"/>
              </a:rPr>
              <a:t>В. А. Петров Математические задачи из сельскохозяйственной практики, М. Просвещение, 1980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450720">
              <a:lnSpc>
                <a:spcPct val="100000"/>
              </a:lnSpc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Comic Sans MS"/>
              </a:rPr>
              <a:t>Математика: алгебра. Функции. Анализ данных: учебник для 8 класса общеобразовательных учреждений / (Г. В. Дорофеев, С. Б. Суворова, Е. А. Бунимович, Л. В. Кузнецова, С. С. Минаева); под редакцией Г. В. Дорофеева. – 2-е издание – М.: Просвещение, 2006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450720">
              <a:lnSpc>
                <a:spcPct val="100000"/>
              </a:lnSpc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Comic Sans MS"/>
              </a:rPr>
              <a:t>Дорофеев Г. В. Процентные вычисления. 10-11 кл.: Учебно-метод. Пособие / Г. В. Дорофеев, Е. А. Седова. – М.: Дрофа, 2003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450720">
              <a:lnSpc>
                <a:spcPct val="100000"/>
              </a:lnSpc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Comic Sans MS"/>
              </a:rPr>
              <a:t>Математика: алгебра. Функции. Анализ данных: учебник для 9 класса общеобразовательных учреждений / (Г. В. Дорофеев, С. Б. Суворова, Е. А. Бунимович, Л. В. Кузнецова, С. С. Минаева); под редакцией Г. В. Дорофеева. – 2-е издание – М.: Просвещение, 2006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450720">
              <a:lnSpc>
                <a:spcPct val="100000"/>
              </a:lnSpc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ff"/>
                </a:solidFill>
                <a:latin typeface="Comic Sans MS"/>
              </a:rPr>
              <a:t>КИМы для подготовки к итоговой аттестации  по алгебре в 9 классе прошлых л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763640" y="189000"/>
            <a:ext cx="5545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Литератур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Определить: применяются ли работниками сельского хозяйства проценты, в каких жизненных ситуациях применяются проценты. Какие задачи на проценты решают жители села в быту и на производст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92360" y="333360"/>
            <a:ext cx="6048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блема проек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Подготовка к ГИА по матема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Решение текстовых задач на применение процентов в практической жизни, а именно, на селе.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35280" y="333360"/>
            <a:ext cx="5329080" cy="11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Цели исследовани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9280" y="1557360"/>
            <a:ext cx="864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Собрать информацию о задачах, которые решают мои односельча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Решить эти задач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Показать связь учебной работы по математике с сельскохозяйственным производств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Сделать вы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42920" y="333360"/>
            <a:ext cx="7201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Задачи исследовани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755640" y="191628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Зна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%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происходит, как полагают, от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итальянског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лов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п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(сто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которое в</a:t>
            </a: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процентных расчётах часто писалось сокращенн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0" y="4437000"/>
            <a:ext cx="9144000" cy="1224000"/>
            <a:chOff x="0" y="4437000"/>
            <a:chExt cx="9144000" cy="1224000"/>
          </a:xfrm>
        </p:grpSpPr>
        <p:sp>
          <p:nvSpPr>
            <p:cNvPr id="110" name="AutoShape 7"/>
            <p:cNvSpPr/>
            <p:nvPr/>
          </p:nvSpPr>
          <p:spPr>
            <a:xfrm>
              <a:off x="611280" y="4868640"/>
              <a:ext cx="8064360" cy="792360"/>
            </a:xfrm>
            <a:prstGeom prst="roundRect">
              <a:avLst>
                <a:gd name="adj" fmla="val 16667"/>
              </a:avLst>
            </a:prstGeom>
            <a:solidFill>
              <a:srgbClr val="e7f8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0" y="4437000"/>
              <a:ext cx="9144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рго</a:t>
              </a: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се</a:t>
              </a: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nt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о       сеп</a:t>
              </a: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о        с</a:t>
              </a: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t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о        с/о        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 txBox="1"/>
          <p:nvPr/>
        </p:nvSpPr>
        <p:spPr>
          <a:xfrm>
            <a:off x="755640" y="189000"/>
            <a:ext cx="7345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Факты из истори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5229360"/>
            <a:ext cx="64764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56000" y="5229360"/>
            <a:ext cx="71928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5229360"/>
            <a:ext cx="64944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08720" y="5229360"/>
            <a:ext cx="71928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9640" y="260280"/>
            <a:ext cx="6120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Сотая часть числа называетс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проценто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1052640"/>
            <a:ext cx="1224000" cy="1224000"/>
          </a:xfrm>
          <a:prstGeom prst="verticalScrol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Comic Sans MS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4869000"/>
            <a:ext cx="1224000" cy="1224000"/>
          </a:xfrm>
          <a:prstGeom prst="verticalScrol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Comic Sans MS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40720" y="1052640"/>
            <a:ext cx="1224000" cy="1224000"/>
          </a:xfrm>
          <a:prstGeom prst="verticalScrol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Comic Sans MS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3213000"/>
            <a:ext cx="1224000" cy="1224000"/>
          </a:xfrm>
          <a:prstGeom prst="verticalScrol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Comic Sans MS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40720" y="5445000"/>
            <a:ext cx="1224000" cy="1224000"/>
          </a:xfrm>
          <a:prstGeom prst="verticalScrol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Comic Sans MS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27280" y="5300640"/>
            <a:ext cx="1224000" cy="1224000"/>
          </a:xfrm>
          <a:prstGeom prst="verticalScrol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5589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Comic Sans MS"/>
              </a:rPr>
              <a:t>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60"/>
          <p:cNvGrpSpPr/>
          <p:nvPr/>
        </p:nvGrpSpPr>
        <p:grpSpPr>
          <a:xfrm>
            <a:off x="0" y="3284640"/>
            <a:ext cx="2700360" cy="1441440"/>
            <a:chOff x="0" y="3284640"/>
            <a:chExt cx="2700360" cy="1441440"/>
          </a:xfrm>
        </p:grpSpPr>
        <p:sp>
          <p:nvSpPr>
            <p:cNvPr id="126" name="AutoShape 32"/>
            <p:cNvSpPr/>
            <p:nvPr/>
          </p:nvSpPr>
          <p:spPr>
            <a:xfrm>
              <a:off x="0" y="3284640"/>
              <a:ext cx="2700360" cy="1441440"/>
            </a:xfrm>
            <a:prstGeom prst="wedgeEllipseCallout">
              <a:avLst>
                <a:gd name="adj1" fmla="val 8379"/>
                <a:gd name="adj2" fmla="val 100550"/>
              </a:avLst>
            </a:prstGeom>
            <a:solidFill>
              <a:srgbClr val="ffff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десятая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часть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Object 44"/>
                <p:cNvSpPr txBox="1"/>
                <p:nvPr/>
              </p:nvSpPr>
              <p:spPr>
                <a:xfrm>
                  <a:off x="865080" y="3333600"/>
                  <a:ext cx="107964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" name="Group 55"/>
          <p:cNvGrpSpPr/>
          <p:nvPr/>
        </p:nvGrpSpPr>
        <p:grpSpPr>
          <a:xfrm>
            <a:off x="755640" y="1844640"/>
            <a:ext cx="3455640" cy="1224000"/>
            <a:chOff x="755640" y="1844640"/>
            <a:chExt cx="3455640" cy="1224000"/>
          </a:xfrm>
        </p:grpSpPr>
        <p:sp>
          <p:nvSpPr>
            <p:cNvPr id="129" name="AutoShape 47"/>
            <p:cNvSpPr/>
            <p:nvPr/>
          </p:nvSpPr>
          <p:spPr>
            <a:xfrm>
              <a:off x="755640" y="1844640"/>
              <a:ext cx="3455640" cy="1224000"/>
            </a:xfrm>
            <a:prstGeom prst="wedgeEllipseCallout">
              <a:avLst>
                <a:gd name="adj1" fmla="val -23398"/>
                <a:gd name="adj2" fmla="val -76199"/>
              </a:avLst>
            </a:prstGeom>
            <a:solidFill>
              <a:srgbClr val="ffff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Пятая </a:t>
              </a:r>
              <a:r>
                <a:rPr b="1" lang="en-US" sz="1800" spc="-1" strike="noStrike">
                  <a:solidFill>
                    <a:srgbClr val="66ff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асть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Object 49"/>
                <p:cNvSpPr txBox="1"/>
                <p:nvPr/>
              </p:nvSpPr>
              <p:spPr>
                <a:xfrm>
                  <a:off x="1943640" y="1916280"/>
                  <a:ext cx="1092600" cy="78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1" name="Group 58"/>
          <p:cNvGrpSpPr/>
          <p:nvPr/>
        </p:nvGrpSpPr>
        <p:grpSpPr>
          <a:xfrm>
            <a:off x="4788000" y="1052640"/>
            <a:ext cx="3203280" cy="1152360"/>
            <a:chOff x="4788000" y="1052640"/>
            <a:chExt cx="3203280" cy="1152360"/>
          </a:xfrm>
        </p:grpSpPr>
        <p:sp>
          <p:nvSpPr>
            <p:cNvPr id="132" name="AutoShape 50"/>
            <p:cNvSpPr/>
            <p:nvPr/>
          </p:nvSpPr>
          <p:spPr>
            <a:xfrm>
              <a:off x="4788000" y="1052640"/>
              <a:ext cx="3203280" cy="1152360"/>
            </a:xfrm>
            <a:prstGeom prst="wedgeEllipseCallout">
              <a:avLst>
                <a:gd name="adj1" fmla="val 44935"/>
                <a:gd name="adj2" fmla="val 46814"/>
              </a:avLst>
            </a:prstGeom>
            <a:solidFill>
              <a:srgbClr val="ffff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Четверть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Object 51"/>
                <p:cNvSpPr txBox="1"/>
                <p:nvPr/>
              </p:nvSpPr>
              <p:spPr>
                <a:xfrm>
                  <a:off x="6053760" y="1052640"/>
                  <a:ext cx="1109160" cy="66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4" name="Group 57"/>
          <p:cNvGrpSpPr/>
          <p:nvPr/>
        </p:nvGrpSpPr>
        <p:grpSpPr>
          <a:xfrm>
            <a:off x="5580000" y="2205000"/>
            <a:ext cx="3348000" cy="1511280"/>
            <a:chOff x="5580000" y="2205000"/>
            <a:chExt cx="3348000" cy="1511280"/>
          </a:xfrm>
        </p:grpSpPr>
        <p:sp>
          <p:nvSpPr>
            <p:cNvPr id="135" name="AutoShape 45"/>
            <p:cNvSpPr/>
            <p:nvPr/>
          </p:nvSpPr>
          <p:spPr>
            <a:xfrm>
              <a:off x="5580000" y="2205000"/>
              <a:ext cx="3348000" cy="1511280"/>
            </a:xfrm>
            <a:prstGeom prst="wedgeEllipseCallout">
              <a:avLst>
                <a:gd name="adj1" fmla="val -62851"/>
                <a:gd name="adj2" fmla="val 80884"/>
              </a:avLst>
            </a:prstGeom>
            <a:solidFill>
              <a:srgbClr val="ffff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Половина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Object 46"/>
                <p:cNvSpPr txBox="1"/>
                <p:nvPr/>
              </p:nvSpPr>
              <p:spPr>
                <a:xfrm>
                  <a:off x="6661080" y="2492280"/>
                  <a:ext cx="1109520" cy="81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7" name="Group 54"/>
          <p:cNvGrpSpPr/>
          <p:nvPr/>
        </p:nvGrpSpPr>
        <p:grpSpPr>
          <a:xfrm>
            <a:off x="2556000" y="4365720"/>
            <a:ext cx="3348000" cy="1224000"/>
            <a:chOff x="2556000" y="4365720"/>
            <a:chExt cx="3348000" cy="1224000"/>
          </a:xfrm>
        </p:grpSpPr>
        <p:sp>
          <p:nvSpPr>
            <p:cNvPr id="138" name="AutoShape 27"/>
            <p:cNvSpPr/>
            <p:nvPr/>
          </p:nvSpPr>
          <p:spPr>
            <a:xfrm>
              <a:off x="2556000" y="4438800"/>
              <a:ext cx="3348000" cy="1150920"/>
            </a:xfrm>
            <a:prstGeom prst="wedgeEllipseCallout">
              <a:avLst>
                <a:gd name="adj1" fmla="val -22925"/>
                <a:gd name="adj2" fmla="val 115518"/>
              </a:avLst>
            </a:prstGeom>
            <a:solidFill>
              <a:srgbClr val="ffff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Сотая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часть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Object 43"/>
                <p:cNvSpPr txBox="1"/>
                <p:nvPr/>
              </p:nvSpPr>
              <p:spPr>
                <a:xfrm>
                  <a:off x="3814920" y="4365720"/>
                  <a:ext cx="61416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0" name="Group 59"/>
          <p:cNvGrpSpPr/>
          <p:nvPr/>
        </p:nvGrpSpPr>
        <p:grpSpPr>
          <a:xfrm>
            <a:off x="4572000" y="5445000"/>
            <a:ext cx="3348000" cy="1412640"/>
            <a:chOff x="4572000" y="5445000"/>
            <a:chExt cx="3348000" cy="1412640"/>
          </a:xfrm>
        </p:grpSpPr>
        <p:sp>
          <p:nvSpPr>
            <p:cNvPr id="141" name="AutoShape 52"/>
            <p:cNvSpPr/>
            <p:nvPr/>
          </p:nvSpPr>
          <p:spPr>
            <a:xfrm>
              <a:off x="4572000" y="5445000"/>
              <a:ext cx="3348000" cy="1412640"/>
            </a:xfrm>
            <a:prstGeom prst="wedgeEllipseCallout">
              <a:avLst>
                <a:gd name="adj1" fmla="val 63277"/>
                <a:gd name="adj2" fmla="val 14268"/>
              </a:avLst>
            </a:prstGeom>
            <a:solidFill>
              <a:srgbClr val="ffff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Три четверти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Object 53"/>
                <p:cNvSpPr txBox="1"/>
                <p:nvPr/>
              </p:nvSpPr>
              <p:spPr>
                <a:xfrm>
                  <a:off x="5724360" y="5516280"/>
                  <a:ext cx="1008360" cy="74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0" t="17993" r="0" b="0"/>
          <a:stretch/>
        </p:blipFill>
        <p:spPr>
          <a:xfrm>
            <a:off x="6585120" y="3789360"/>
            <a:ext cx="2234880" cy="28526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79786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918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Зоотехник  колхоза рассказал, что благодаря внедрению новому рациону кормления жирность молока в хозяйстве достигла 3,79%, в результате чего колхозу за год зачтено молока на 111 т больше, чем фактически надоено. Можно ли по этим данным определить фактические надои молока в колхоз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918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Comic Sans MS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Базисная жирность молока установлена 3,60%.                           Обозначив теперь надои через </a:t>
            </a: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x</a:t>
            </a:r>
            <a:r>
              <a:rPr b="0" i="1" lang="ru-RU" sz="2000" spc="-1" strike="noStrike">
                <a:solidFill>
                  <a:srgbClr val="0000ff"/>
                </a:solidFill>
                <a:latin typeface="Comic Sans MS"/>
              </a:rPr>
              <a:t>,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получим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3,79х = 3,6(х+1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3,79х = 3,6х+3,6*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3,79х-3,6х = 399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0,19х = 399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х = 399,6 : 0,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х ≈ 2103</a:t>
            </a:r>
            <a:br>
              <a:rPr sz="2400"/>
            </a:br>
            <a:r>
              <a:rPr b="0" i="1" lang="ru-RU" sz="2400" spc="-1" strike="noStrike">
                <a:solidFill>
                  <a:srgbClr val="0000ff"/>
                </a:solidFill>
                <a:latin typeface="Comic Sans MS"/>
              </a:rPr>
              <a:t>Ответ: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фактические надои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в колхозе 2103 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71640" y="0"/>
            <a:ext cx="655308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Фактические надо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904000" y="4737240"/>
            <a:ext cx="3240000" cy="21207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 algn="just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Среди коров чёрно-пёстрой породы к  2010 году лучшие результаты показали Луна, давшая за год 8130 кг молока жирности 3,88%, и Груша, давшая 8235 кг молока жирности 3,50%. Какую из этих коров следует  считать рекордистк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Найдём количество молочного жира, которое можно получить из молока той и другой коро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8130 * 0,0388 = 315,444 (кг) - количество молочного жира, которое можно получить из молока коровы Лу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8235 * 0,035 = 288,225 (кг) - количество молочного жира, которое можно получить из молока коровы Гру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315,444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&gt;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288,225 , поэтому                              продуктивность Луны выше.                                                                Её и считают рекордист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76360" y="0"/>
            <a:ext cx="626580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Корова-рекордистк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37320" y="2637000"/>
            <a:ext cx="1606680" cy="23032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68882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 соответствии с требованиями агротехники зерно засыпается на длительное хранение при влажности до 14 %  (кондиционное состояние). На сколько процентов уменьшается масса зерна при просушке до кондиционного состояния, если влажность свежеубранного зерна 24%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усть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– масса свежеубранного зер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ухого вещества в нём содержится 0,76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Это сухое вещество составляет 86% массы зерна в кондиционном состоя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этому масса зерна после просушки будет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, а значит, масса уменьшилась на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, что составляет </a:t>
            </a:r>
            <a:r>
              <a:rPr b="0" lang="ru-RU" sz="20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11,6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Ответ: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масса зерна при просушке уменьшилась приметно на 11,6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58920" y="189000"/>
            <a:ext cx="671508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Засыпаем зерно на хранени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5:13:03Z</dcterms:created>
  <dc:creator>Home</dc:creator>
  <dc:description/>
  <dc:language>en-US</dc:language>
  <cp:lastModifiedBy>школа</cp:lastModifiedBy>
  <dcterms:modified xsi:type="dcterms:W3CDTF">2011-01-28T11:03:31Z</dcterms:modified>
  <cp:revision>43</cp:revision>
  <dc:subject/>
  <dc:title>Филиал муниципального общеобразовательного учреждения                           средней общеобразовательной школы с. Шестаково                                  основная общеобразовательная школа с. Лекма                                   Слободского района Кировской области   </dc:title>
</cp:coreProperties>
</file>